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4.jpeg" ContentType="image/jpeg"/>
  <Override PartName="/ppt/media/image2.png" ContentType="image/png"/>
  <Override PartName="/ppt/media/image1.jpeg" ContentType="image/jpeg"/>
  <Override PartName="/ppt/media/image10.png" ContentType="image/png"/>
  <Override PartName="/ppt/media/image5.wmf" ContentType="image/x-wmf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9.png" ContentType="image/png"/>
  <Override PartName="/ppt/media/image13.wmf" ContentType="image/x-wmf"/>
  <Override PartName="/ppt/media/image11.wmf" ContentType="image/x-wmf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1440"/>
            <a:ext cx="2971800" cy="466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-1440"/>
            <a:ext cx="2971800" cy="466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11320" y="703440"/>
            <a:ext cx="4635360" cy="3474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414680"/>
            <a:ext cx="5029200" cy="41832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29720"/>
            <a:ext cx="2971800" cy="466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829720"/>
            <a:ext cx="2971800" cy="466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9065F48-F9E4-4EF8-A3FA-82C9E999E1CA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6200" y="8829720"/>
            <a:ext cx="29718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1CB80BD-3449-41A4-ABAA-FC7F60E3205B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32480" cy="347472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414680"/>
            <a:ext cx="50292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6200" y="8829720"/>
            <a:ext cx="29718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1230B1E-8A81-461E-AE20-4F769EFDC355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32480" cy="347472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414680"/>
            <a:ext cx="50292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6200" y="8829720"/>
            <a:ext cx="29718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B19CF91-F7BF-4DEA-AE6F-FE9F442C3F6B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32480" cy="347472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414680"/>
            <a:ext cx="50292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6200" y="8829720"/>
            <a:ext cx="29718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1BAFDEA-4D60-4AED-8CDE-D384CCC75F9C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32480" cy="347472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414680"/>
            <a:ext cx="50292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6200" y="8829720"/>
            <a:ext cx="29718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0EADA41-D78E-4DC1-8331-E014C31F9068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32480" cy="347472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14400" y="4414680"/>
            <a:ext cx="50292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6200" y="8829720"/>
            <a:ext cx="29718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5E3EAE4-F88F-4F45-A9DC-4B9A6A5EAF28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32480" cy="347472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414680"/>
            <a:ext cx="5029200" cy="41832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6200" y="8829720"/>
            <a:ext cx="29718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E4E91D4-10A8-4460-A02F-31B8807036DB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32480" cy="347472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4400" y="4414680"/>
            <a:ext cx="50292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6200" y="8829720"/>
            <a:ext cx="29718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F959E96-57B6-4E1B-8B2B-5A4B335347B2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32480" cy="347472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14400" y="4414680"/>
            <a:ext cx="50292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6200" y="8829720"/>
            <a:ext cx="29718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F2D0A97-2C33-4D1D-8545-B375543EF79C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32480" cy="347472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14400" y="4414680"/>
            <a:ext cx="50292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6200" y="8829720"/>
            <a:ext cx="29718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0BC83AA-BF0A-47C3-BA7A-D449330659AB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32480" cy="347472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14400" y="4414680"/>
            <a:ext cx="50292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6200" y="8829720"/>
            <a:ext cx="29718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22C6C20-6EB1-4A60-865A-6526EDD2E617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32480" cy="347472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14400" y="4414680"/>
            <a:ext cx="50292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6200" y="8829720"/>
            <a:ext cx="29718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64D0263-DD4B-440D-A2CC-66C34392602D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32480" cy="347472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414680"/>
            <a:ext cx="50292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6200" y="8829720"/>
            <a:ext cx="29718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8448798-9C35-4151-96EA-8BA2A5031DC9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32480" cy="347472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14400" y="4414680"/>
            <a:ext cx="50292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6200" y="8829720"/>
            <a:ext cx="29718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248B02B-AD75-4906-A85C-747E149E62C1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32480" cy="347472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14400" y="4414680"/>
            <a:ext cx="50292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6200" y="8829720"/>
            <a:ext cx="29718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8CD060C-17C8-4824-8A7E-C4ABD96CC248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32480" cy="347472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14400" y="4414680"/>
            <a:ext cx="50292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6200" y="8829720"/>
            <a:ext cx="29718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65AED21-8E84-4270-B491-BA61843E6DB6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32480" cy="347472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14400" y="4414680"/>
            <a:ext cx="50292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6200" y="8829720"/>
            <a:ext cx="29718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D158973-B99F-460A-8624-ACC5C21F7AAE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32480" cy="347472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14400" y="4414680"/>
            <a:ext cx="50292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6200" y="8829720"/>
            <a:ext cx="29718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F3FD344-A439-4908-8C97-62CB7CB62378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32480" cy="347472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14400" y="4414680"/>
            <a:ext cx="50292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6200" y="8829720"/>
            <a:ext cx="29718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D9C7DA6-F75E-4BEC-9E0B-F3D78432269D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32480" cy="347472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14400" y="4414680"/>
            <a:ext cx="50292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6200" y="8829720"/>
            <a:ext cx="29718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64A8836-26CD-43F7-8B07-41BD6D746468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32480" cy="347472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14400" y="4414680"/>
            <a:ext cx="50292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6200" y="8829720"/>
            <a:ext cx="29718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1581BC3-4E79-444B-B2CE-9CB4A590F368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32480" cy="347472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14400" y="4414680"/>
            <a:ext cx="50292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6200" y="8829720"/>
            <a:ext cx="29718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B0143A8-088D-4606-8067-C18B4F997E3F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32480" cy="347472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14400" y="4414680"/>
            <a:ext cx="50292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6200" y="8829720"/>
            <a:ext cx="29718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B025342-6BEB-48BC-B424-C286D8ED874D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32480" cy="347472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414680"/>
            <a:ext cx="50292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6200" y="8829720"/>
            <a:ext cx="29718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375CC15-93F2-4A6C-9043-F54C257BD3F6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32480" cy="347472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14400" y="4414680"/>
            <a:ext cx="50292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6200" y="8829720"/>
            <a:ext cx="29718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F561E39-8E52-46C1-BCCB-F1A6632E1D81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32480" cy="347472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14400" y="4414680"/>
            <a:ext cx="50292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6200" y="8829720"/>
            <a:ext cx="29718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49BD06B-AAB6-4AB5-BED5-D0AA30D790D3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32480" cy="347472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14400" y="4414680"/>
            <a:ext cx="50292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6200" y="8829720"/>
            <a:ext cx="29718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7641CB7-ED23-4A58-845A-6C03D98EF0A8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32480" cy="347472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14400" y="4414680"/>
            <a:ext cx="50292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6200" y="8829720"/>
            <a:ext cx="29718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B68438A-E51F-4633-A269-2485F640CDCF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32480" cy="347472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14400" y="4414680"/>
            <a:ext cx="50292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6200" y="8829720"/>
            <a:ext cx="29718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107A6B9-08D8-41F3-8E67-8957761ED6B5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32480" cy="347472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14400" y="4414680"/>
            <a:ext cx="50292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6200" y="8829720"/>
            <a:ext cx="29718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B0ED223-A975-4B64-8C33-782EA6CA6381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32480" cy="347472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14400" y="4414680"/>
            <a:ext cx="50292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6200" y="8829720"/>
            <a:ext cx="29718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2C3877A-1DD3-4375-9348-E01732BA8B85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32480" cy="347472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14400" y="4414680"/>
            <a:ext cx="50292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6200" y="8829720"/>
            <a:ext cx="29718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191ACFD-D2C1-48D5-9495-61B8939D8BD8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32480" cy="347472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14400" y="4414680"/>
            <a:ext cx="50292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6200" y="8829720"/>
            <a:ext cx="29718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4447CB5-0F23-4C71-A1F6-6F895B6F3FFA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32480" cy="347472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14400" y="4414680"/>
            <a:ext cx="50292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6200" y="8829720"/>
            <a:ext cx="29718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4283EB4-041E-49CF-8845-849461FCFC5D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32480" cy="347472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414680"/>
            <a:ext cx="50292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6200" y="8829720"/>
            <a:ext cx="29718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2701FAD-1189-4EBE-A427-7E41C1AAE9AC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32480" cy="347472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14400" y="4414680"/>
            <a:ext cx="50292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6200" y="8829720"/>
            <a:ext cx="29718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156E11E-FEA4-4E3D-B5C1-4ABE0127E0FC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32480" cy="347472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14400" y="4414680"/>
            <a:ext cx="50292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6200" y="8829720"/>
            <a:ext cx="29718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75C5855-DBD0-4958-81FE-C27C9EC5AA4A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32480" cy="347472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14400" y="4414680"/>
            <a:ext cx="50292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6200" y="8829720"/>
            <a:ext cx="29718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82A892F-52B5-40FF-85B7-650F2DAFA9FA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32480" cy="347472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14400" y="4414680"/>
            <a:ext cx="50292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6200" y="8829720"/>
            <a:ext cx="29718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7864792-1715-48DC-939C-B7EBD9B20E1C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32480" cy="347472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14400" y="4414680"/>
            <a:ext cx="50292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6200" y="8829720"/>
            <a:ext cx="29718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F358159-C4FA-44E2-AB95-BE3CB62D10C1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32480" cy="347472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14400" y="4414680"/>
            <a:ext cx="50292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6200" y="8829720"/>
            <a:ext cx="29718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15352F3-4986-43A5-AB6F-519314FFA744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32480" cy="347472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14400" y="4414680"/>
            <a:ext cx="50292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6200" y="8829720"/>
            <a:ext cx="29718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8E9D79A-B914-4A8E-9C12-93F173F6E39B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32480" cy="347472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414680"/>
            <a:ext cx="50292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6200" y="8829720"/>
            <a:ext cx="29718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3EDF7E9-0E8E-430B-A040-3B34E6C364E0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32480" cy="347472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414680"/>
            <a:ext cx="50292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6200" y="8829720"/>
            <a:ext cx="29718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78488DC-FC62-4C69-A04D-AD280190EBC2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32480" cy="347472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14400" y="4414680"/>
            <a:ext cx="50292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6200" y="8829720"/>
            <a:ext cx="29718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5A0D9B8-5FBC-4EFE-BC85-8DC59F5323EC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32480" cy="347472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414680"/>
            <a:ext cx="50292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6200" y="8829720"/>
            <a:ext cx="29718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F856092-93A9-4C86-9980-A20EF6556A99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32480" cy="347472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4414680"/>
            <a:ext cx="50292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BB59D-4BF3-4D6D-A4CE-CD18862AC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DB6CB-C1D0-4124-BCF5-2E5943012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C3BB9-B72B-4CA4-9A26-26D4F6DAD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B49C9-A0CB-413A-A945-2BA74B647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488D7-803B-46CF-918F-8ADDE9677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A376A-BEFE-49AD-B795-935AC0A34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B546D-2A04-4649-83D8-B5D4B043B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49E83-D434-4C11-92FE-4247B96CF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9C0B9-8FED-4B81-B797-34B7CB5AF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5DDA7-502F-46D9-8DA9-8CABF6161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07EA1-5D17-4B21-A134-BD0AA4E17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A4396-A036-41F9-A395-176D87C46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175A8-EC68-4931-B4AB-9E45AC348D7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www.teachgrant.gov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hyperlink" Target="http://www.arcadia.edu/calculator" TargetMode="External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hyperlink" Target="http://www.fafsa.gov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federalstudentaid.ed.gov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-360" y="1295280"/>
            <a:ext cx="8991720" cy="198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800" spc="-1" strike="noStrike">
                <a:solidFill>
                  <a:srgbClr val="abd8a8"/>
                </a:solidFill>
                <a:latin typeface="Berlin Sans FB"/>
              </a:rPr>
              <a:t>FINANCIAL AID:  </a:t>
            </a:r>
            <a:br>
              <a:rPr sz="4800"/>
            </a:br>
            <a:r>
              <a:rPr b="0" lang="en-US" sz="4800" spc="-1" strike="noStrike">
                <a:solidFill>
                  <a:srgbClr val="abd8a8"/>
                </a:solidFill>
                <a:latin typeface="Berlin Sans FB"/>
              </a:rPr>
              <a:t>Demystifying The Process</a:t>
            </a:r>
            <a:br>
              <a:rPr sz="4800"/>
            </a:b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47920" y="2361960"/>
            <a:ext cx="6400800" cy="2819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Text Box 7"/>
          <p:cNvSpPr/>
          <p:nvPr/>
        </p:nvSpPr>
        <p:spPr>
          <a:xfrm>
            <a:off x="0" y="426708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rlin Sans FB"/>
              </a:rPr>
              <a:t>Presented by:  Dan Yannuzz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rlin Sans FB"/>
              </a:rPr>
              <a:t>yannuzzi@arcadia.edu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rlin Sans FB"/>
              </a:rPr>
              <a:t>Senior Assistant Director of Enrollment Managemen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1" name="Picture 8" descr="ARCADIA PC LOGO small"/>
          <p:cNvPicPr/>
          <p:nvPr/>
        </p:nvPicPr>
        <p:blipFill>
          <a:blip r:embed="rId1"/>
          <a:stretch/>
        </p:blipFill>
        <p:spPr>
          <a:xfrm>
            <a:off x="2743200" y="5486400"/>
            <a:ext cx="3581280" cy="1193760"/>
          </a:xfrm>
          <a:prstGeom prst="rect">
            <a:avLst/>
          </a:prstGeom>
          <a:ln w="0">
            <a:noFill/>
          </a:ln>
        </p:spPr>
      </p:pic>
    </p:spTree>
  </p:cSld>
  <p:transition advTm="0">
    <p:cover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bd8a8"/>
                </a:solidFill>
                <a:latin typeface="Tahoma"/>
              </a:rPr>
              <a:t>Whose Info. Is On the FAFSA?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762012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abd8a8"/>
                </a:solidFill>
                <a:latin typeface="Tahoma"/>
              </a:rPr>
              <a:t>Dependent:</a:t>
            </a:r>
            <a:r>
              <a:rPr b="0" lang="en-US" sz="2100" spc="-1" strike="noStrike">
                <a:solidFill>
                  <a:srgbClr val="ffffff"/>
                </a:solidFill>
                <a:latin typeface="Tahoma"/>
              </a:rPr>
              <a:t>  parental &amp; student financial data required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ahoma"/>
              </a:rPr>
              <a:t>In cases of divorce or legal separation, complete with info of custodial parent (and his/her new spouse, if applicable)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abd8a8"/>
                </a:solidFill>
                <a:latin typeface="Tahoma"/>
              </a:rPr>
              <a:t>Independent:</a:t>
            </a:r>
            <a:r>
              <a:rPr b="0" lang="en-US" sz="2100" spc="-1" strike="noStrike">
                <a:solidFill>
                  <a:srgbClr val="ffffff"/>
                </a:solidFill>
                <a:latin typeface="Tahoma"/>
              </a:rPr>
              <a:t>  student &amp; spouse financial data required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ahoma"/>
              </a:rPr>
              <a:t>Student must meet one of following criteria to be considered independent: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24 years of ag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Veteran of the U.S. Armed Forc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ctive Duty in Militar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mancipated minor or in a legal guardianship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Unaccompanied youth who is homeles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nrolled in a graduate or professional program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arrie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Orphan or ward of the court until age 18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Have legal dependents for which the student provides at least 50% of the suppor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1" name="Picture 4" descr="MCj02955550000[1]"/>
          <p:cNvPicPr/>
          <p:nvPr/>
        </p:nvPicPr>
        <p:blipFill>
          <a:blip r:embed="rId1"/>
          <a:stretch/>
        </p:blipFill>
        <p:spPr>
          <a:xfrm>
            <a:off x="152280" y="4800600"/>
            <a:ext cx="1725840" cy="1754280"/>
          </a:xfrm>
          <a:prstGeom prst="rect">
            <a:avLst/>
          </a:prstGeom>
          <a:ln w="0">
            <a:noFill/>
          </a:ln>
        </p:spPr>
      </p:pic>
    </p:spTree>
  </p:cSld>
  <p:transition advTm="0">
    <p:cover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bd8a8"/>
                </a:solidFill>
                <a:latin typeface="Tahoma"/>
              </a:rPr>
              <a:t>Filing The FAFSA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240" y="1676520"/>
            <a:ext cx="7543800" cy="431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lvl="1" marL="690840" indent="-265680">
              <a:lnSpc>
                <a:spcPct val="90000"/>
              </a:lnSpc>
              <a:spcBef>
                <a:spcPts val="751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Based on prior calendar year tax information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51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May use estimated income and taxes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51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Don’t wait to be accepted to college to complete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51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PA residents </a:t>
            </a:r>
            <a:r>
              <a:rPr b="0" lang="en-US" sz="3000" spc="-1" strike="noStrike" u="sng">
                <a:solidFill>
                  <a:srgbClr val="ffffff"/>
                </a:solidFill>
                <a:uFillTx/>
                <a:latin typeface="Tahoma"/>
              </a:rPr>
              <a:t>must 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 file by </a:t>
            </a:r>
            <a:r>
              <a:rPr b="1" lang="en-US" sz="3000" spc="-1" strike="noStrike">
                <a:solidFill>
                  <a:srgbClr val="abd8a8"/>
                </a:solidFill>
                <a:latin typeface="Tahoma"/>
              </a:rPr>
              <a:t>May 1</a:t>
            </a:r>
            <a:r>
              <a:rPr b="0" lang="en-US" sz="3000" spc="-1" strike="noStrike">
                <a:solidFill>
                  <a:srgbClr val="ffcc66"/>
                </a:solidFill>
                <a:latin typeface="Tahoma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or state grant consideration for following fall term; state will follow up with student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51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MAKE COPIES OF </a:t>
            </a:r>
            <a:r>
              <a:rPr b="0" lang="en-US" sz="3000" spc="-1" strike="noStrike" u="sng">
                <a:solidFill>
                  <a:srgbClr val="ffffff"/>
                </a:solidFill>
                <a:uFillTx/>
                <a:latin typeface="Tahoma"/>
              </a:rPr>
              <a:t>EVERY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 FORM!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4" name="Picture 4" descr="MCj04039790000[1]"/>
          <p:cNvPicPr/>
          <p:nvPr/>
        </p:nvPicPr>
        <p:blipFill>
          <a:blip r:embed="rId1"/>
          <a:stretch/>
        </p:blipFill>
        <p:spPr>
          <a:xfrm>
            <a:off x="304920" y="4267080"/>
            <a:ext cx="1752480" cy="1752840"/>
          </a:xfrm>
          <a:prstGeom prst="rect">
            <a:avLst/>
          </a:prstGeom>
          <a:ln w="0">
            <a:noFill/>
          </a:ln>
        </p:spPr>
      </p:pic>
    </p:spTree>
  </p:cSld>
  <p:transition advTm="0">
    <p:cover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bd8a8"/>
                </a:solidFill>
                <a:latin typeface="Tahoma"/>
              </a:rPr>
              <a:t>Corrections to the FAFSA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24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ahoma"/>
              </a:rPr>
              <a:t>Receive colored SAR (Student Aid Report or summary of FAFSA information) 3-4 weeks later (link will be emailed if FAFSA filed on-line)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24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ahoma"/>
              </a:rPr>
              <a:t>Review for corrections   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dd additional colleges &amp;  make address corrections over phone 1-800-4FEDAID or on web using PIN #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ake all other corrections on SAR &amp; return it to Federal Student Aid Programs or use PIN # to make corrections on Internet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0">
    <p:cover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bd8a8"/>
                </a:solidFill>
                <a:latin typeface="Tahoma"/>
              </a:rPr>
              <a:t>When Completing the FAFSA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520" y="182844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ommon Mistakes To Avoid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51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Be sure student uses his/her correct SS# as this </a:t>
            </a:r>
            <a:r>
              <a:rPr b="1" i="1" lang="en-US" sz="3000" spc="-1" strike="noStrike" u="sng">
                <a:solidFill>
                  <a:srgbClr val="ffffff"/>
                </a:solidFill>
                <a:uFillTx/>
                <a:latin typeface="Tahoma"/>
              </a:rPr>
              <a:t>CAN NOT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 be corrected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51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Don’t leave questions blank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51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Report only dollar amounts (not cents!)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51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Enter “U.S. income tax paid” (not U.S. income tax “withheld”!)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51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A parent </a:t>
            </a:r>
            <a:r>
              <a:rPr b="1" i="1" lang="en-US" sz="3000" spc="-1" strike="noStrike" u="sng">
                <a:solidFill>
                  <a:srgbClr val="ffffff"/>
                </a:solidFill>
                <a:uFillTx/>
                <a:latin typeface="Tahoma"/>
              </a:rPr>
              <a:t>AND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 the student must sign form or use PIN # as e-signature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0">
    <p:cover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bd8a8"/>
                </a:solidFill>
                <a:latin typeface="Tahoma"/>
              </a:rPr>
              <a:t>Financial Need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600" y="1752120"/>
            <a:ext cx="861048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00ffff"/>
                </a:solidFill>
                <a:latin typeface="Tahoma"/>
              </a:rPr>
              <a:t>Cost of Attendance (COA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ahoma"/>
              </a:rPr>
              <a:t>-</a:t>
            </a:r>
            <a:r>
              <a:rPr b="0" lang="en-US" sz="3600" spc="-1" strike="noStrike" u="sng">
                <a:solidFill>
                  <a:srgbClr val="00ffff"/>
                </a:solidFill>
                <a:uFillTx/>
                <a:latin typeface="Tahoma"/>
              </a:rPr>
              <a:t>Expected Family Contribution (EFC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00ffff"/>
                </a:solidFill>
                <a:latin typeface="Tahoma"/>
              </a:rPr>
              <a:t>Financial Need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st of Attendance typically includes tuition, fees, room &amp; board, books &amp; supplies, personal expenses and a transportation allowan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0">
    <p:cover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bd8a8"/>
                </a:solidFill>
                <a:latin typeface="Tahoma"/>
              </a:rPr>
              <a:t>What Is The EFC?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Basis of financial aid package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EFC=determined by a federal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formula that calculates need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via the FAFSA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EFC &amp; Financial Need are guidelines used by schools to determine aid package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EFC not necessarily = to out-of-pocket cost of family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Colleges will attempt to meet as much need as they can, but funding does have limits.                      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0">
    <p:cover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bd8a8"/>
                </a:solidFill>
                <a:latin typeface="Tahoma"/>
              </a:rPr>
              <a:t>How Is The EFC Calculated?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84872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Primary Factors Looked At: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axable Income:  AGI (wages earned+interest dividends+other taxable income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ntaxed income &amp; benefi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umber in family &amp; Number in Househol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umber of dependent children in colleg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726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ssets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0">
    <p:cover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bd8a8"/>
                </a:solidFill>
                <a:latin typeface="Tahoma"/>
              </a:rPr>
              <a:t>Treatment of Asset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 algn="ctr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ffffff"/>
                </a:solidFill>
                <a:uFillTx/>
                <a:latin typeface="Tahoma"/>
              </a:rPr>
              <a:t>ASSETS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55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Assets:  includes cash/savings, value of other real estate and investments; excludes value of primary home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sset protection allowance acc. to age of oldest paren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(ex:-Oldest Parent’s Age=50, $52,900 of assets protected (if married; $20,500 if single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12% of parents assets counted toward EFC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20% of student’s assets counted beginning with 2007-2008 FAFSA, previously was 35%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oes not include: value of life insurance policies, retirement plans (ex.-IRA, 401k, or Keogh Plan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When reporting assets, investment debt cannot be greater than investment valu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0">
    <p:cover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bd8a8"/>
                </a:solidFill>
                <a:latin typeface="Tahoma"/>
              </a:rPr>
              <a:t>Institutional Methodolog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0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ome schools may require CSS Profile For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imarily private school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llects supplemental data (i.e.-home equity, financial data of non-custodial parent, value or retirement plans, etc.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alculate IFC (Institutional Family Contributio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asis for awarding institutional need-based ai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0">
    <p:cover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bd8a8"/>
                </a:solidFill>
                <a:latin typeface="Tahoma"/>
              </a:rPr>
              <a:t>Help!  Sources of Aid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11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Federal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11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tat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11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he College/University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11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Outside Organization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ivic organizations (ex.-local Rotary Club), parent’s employer, high schoo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0">
    <p:cover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fin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0">
    <p:checker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bd8a8"/>
                </a:solidFill>
                <a:latin typeface="Tahoma"/>
              </a:rPr>
              <a:t>Federal Governmen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To qualify for Federal Aid, students MUST: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e a U.S. citizen or eligible non-citiz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ave h.s. diploma or equivalent (GED)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e matriculating in a degree/certificate program at accredited Title IV schoo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e registered with Selective Service if a male between ages of 18 and 25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825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Tahoma"/>
              </a:rPr>
              <a:t>Pell Grant (need-based):         </a:t>
            </a:r>
            <a:endParaRPr b="0" lang="en-US" sz="33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9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x of $5,550/year in 2010-201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9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FC of $5,273 or le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0">
    <p:cover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bd8a8"/>
                </a:solidFill>
                <a:latin typeface="Tahoma"/>
              </a:rPr>
              <a:t>Federal Governmen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84872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ederal Stafford Loa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ederal Direct Loan Progra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Lender is Department of Education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 student’s name/no credit check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vailable to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all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students, regardless of ne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payment begins 6 months following graduation or withdraw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ixed 6.8% interest rate as of 7/1/2006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terest rate for 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Subsidized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loans for 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undergraduate student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only will be 3.4% for 2011-2012 school year,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back to 6.8% after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nsubsidized Loans remain at 6.8%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0">
    <p:cover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bd8a8"/>
                </a:solidFill>
                <a:latin typeface="Tahoma"/>
              </a:rPr>
              <a:t>Federal Governmen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0010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Tahoma"/>
              </a:rPr>
              <a:t>STAFFORD LOAN, SUBSIDIZED VS. UNSUBSIDIZED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ffffff"/>
                </a:solidFill>
                <a:latin typeface="Tahoma"/>
              </a:rPr>
              <a:t>Subsidized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Based on financial nee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Govt. pays interest on loan while student is enrolle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ffffff"/>
                </a:solidFill>
                <a:latin typeface="Tahoma"/>
              </a:rPr>
              <a:t>Unsubsidized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vailable to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ALL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students, regardless of nee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nterest paid either quarterly or capitalized upon repayment:  rate=currently 6.8%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Stafford amount caps by grade level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$3,500 freshmen year + $2,000 Unsubsidized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$4,500 sophomore year + $2,000 Unsubsidiz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$5,500 junior/senior year + $2,000 Unsubsidiz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ahoma"/>
              </a:rPr>
              <a:t>Add’l. unsub available to students whose parent(s) are denied on PLUS Loan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0">
    <p:cover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bd8a8"/>
                </a:solidFill>
                <a:latin typeface="Tahoma"/>
              </a:rPr>
              <a:t>Federal Governmen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560" y="1905120"/>
            <a:ext cx="8305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lus Loan (Parent Loan for Dependent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ahoma"/>
              </a:rPr>
              <a:t>loan in parent’s name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ahoma"/>
              </a:rPr>
              <a:t>interest cap of 9%</a:t>
            </a:r>
            <a:r>
              <a:rPr b="0" lang="en-US" sz="25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ahoma"/>
              </a:rPr>
              <a:t>current rate:  7.9% Direct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ahoma"/>
              </a:rPr>
              <a:t>repayment begins within 60 days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500" spc="-1" strike="noStrike">
                <a:solidFill>
                  <a:srgbClr val="ffffff"/>
                </a:solidFill>
                <a:latin typeface="Tahoma"/>
              </a:rPr>
              <a:t>of 2</a:t>
            </a:r>
            <a:r>
              <a:rPr b="0" lang="en-US" sz="2500" spc="-1" strike="noStrike" baseline="30000">
                <a:solidFill>
                  <a:srgbClr val="ffffff"/>
                </a:solidFill>
                <a:latin typeface="Tahoma"/>
              </a:rPr>
              <a:t>nd</a:t>
            </a:r>
            <a:r>
              <a:rPr b="0" lang="en-US" sz="2500" spc="-1" strike="noStrike">
                <a:solidFill>
                  <a:srgbClr val="ffffff"/>
                </a:solidFill>
                <a:latin typeface="Tahoma"/>
              </a:rPr>
              <a:t> disbursement coming in 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500" spc="-1" strike="noStrike">
                <a:solidFill>
                  <a:srgbClr val="ffffff"/>
                </a:solidFill>
                <a:latin typeface="Tahoma"/>
              </a:rPr>
              <a:t>to school, but may request deferrals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ahoma"/>
              </a:rPr>
              <a:t>credit check involved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ahoma"/>
              </a:rPr>
              <a:t>borrow up to cost of attendance minus other financial aid student is receiving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ahoma"/>
              </a:rPr>
              <a:t>3-4% Origination Fee typically applies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0">
    <p:cover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bd8a8"/>
                </a:solidFill>
                <a:latin typeface="Tahoma"/>
              </a:rPr>
              <a:t>Federal Campus-Based Aid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52280" y="1676520"/>
            <a:ext cx="868680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825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Tahoma"/>
              </a:rPr>
              <a:t>Schools receive limited funds (i.e. a specific “pot” of money).</a:t>
            </a:r>
            <a:endParaRPr b="0" lang="en-US" sz="33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726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Student will not necessarily receive Campus-Based Aid from all schools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lvl="2" marL="1108440" indent="-221400">
              <a:spcBef>
                <a:spcPts val="675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ahoma"/>
              </a:rPr>
              <a:t>SEOG Grant-exceptional need-$100-4,000/yr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lvl="2" marL="1108440" indent="-221400">
              <a:spcBef>
                <a:spcPts val="675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ahoma"/>
              </a:rPr>
              <a:t>Perkins Loan-exceptional need-$100-3000/year; 5% interest rate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lvl="2" marL="1108440" indent="-221400">
              <a:spcBef>
                <a:spcPts val="675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ahoma"/>
              </a:rPr>
              <a:t>Federal Work Study: typically not deducted from bill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3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0">
    <p:cover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bd8a8"/>
                </a:solidFill>
                <a:latin typeface="Tahoma"/>
              </a:rPr>
              <a:t>TEACH Gran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52280" y="1676520"/>
            <a:ext cx="868680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$4000 annually for 4 years as undergraduate; available for 2 years as graduate student.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ust be in degree program taking coursework to prepare for a career in teachin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ust annually sign Agreement to Serve (ATS), agreeing to teach 4 out of 8 years upon graduation in a low income school, in a high need fiel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ailure to meet teaching requirements causes grant to revert to a Direct Unsubsidized Stafford loa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Not based on financial nee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Visit </a:t>
            </a:r>
            <a:r>
              <a:rPr b="0" lang="en-US" sz="2000" spc="-1" strike="noStrike" u="sng">
                <a:solidFill>
                  <a:srgbClr val="ffcc66"/>
                </a:solidFill>
                <a:uFillTx/>
                <a:latin typeface="Tahoma"/>
                <a:hlinkClick r:id="rId1"/>
              </a:rPr>
              <a:t>www.teachgrant.gov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for more informa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0">
    <p:cover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bd8a8"/>
                </a:solidFill>
                <a:latin typeface="Tahoma"/>
              </a:rPr>
              <a:t>State </a:t>
            </a: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 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ennsylvania State Grant (for PA Residents):  $3,541 max/year for 2010-2011 for students attending a PA schoo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ligibility based on the family’s EFC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ax PHEAA Grant that can transfer out-of-state, $600, to:  CT, DE, MA, ME, OH, RI, VT, DC, WV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$400 maximum transfers to other states, except NJ, MD and NY--$0 transfers there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tudent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must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file FAFSA by May 1 for upcoming fall ter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HEAA sends student status notice beginning mid-May; student must complete and return to PHEA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Picture 4" descr="pheaalogo"/>
          <p:cNvPicPr/>
          <p:nvPr/>
        </p:nvPicPr>
        <p:blipFill>
          <a:blip r:embed="rId1"/>
          <a:stretch/>
        </p:blipFill>
        <p:spPr>
          <a:xfrm>
            <a:off x="228600" y="228600"/>
            <a:ext cx="2438280" cy="13716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AES logo"/>
          <p:cNvPicPr/>
          <p:nvPr/>
        </p:nvPicPr>
        <p:blipFill>
          <a:blip r:embed="rId2"/>
          <a:stretch/>
        </p:blipFill>
        <p:spPr>
          <a:xfrm>
            <a:off x="5867280" y="228600"/>
            <a:ext cx="2971800" cy="1295280"/>
          </a:xfrm>
          <a:prstGeom prst="rect">
            <a:avLst/>
          </a:prstGeom>
          <a:ln w="0">
            <a:noFill/>
          </a:ln>
        </p:spPr>
      </p:pic>
    </p:spTree>
  </p:cSld>
  <p:transition advTm="0">
    <p:cover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bd8a8"/>
                </a:solidFill>
                <a:latin typeface="Tahoma"/>
              </a:rPr>
              <a:t>Stat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obert Byrd Scholarship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$1,500 per year for four yea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24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ahoma"/>
              </a:rPr>
              <a:t>Eligibility Requirements: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55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Top 5% of graduating class or ranked 1, 2, or 3 in a class of 60 or less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55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3.5 GPA on 4.0 scale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55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SAT’s:  1150 or better (Critical Reading and Math Combined) or ACT Composite Score of 25 or better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524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ahoma"/>
              </a:rPr>
              <a:t>U.S. Citizen and Pennsylvania Resident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524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ahoma"/>
              </a:rPr>
              <a:t>Completed Application (see high school guidance office)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524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ahoma"/>
              </a:rPr>
              <a:t>May 1st filing deadline for FAFSA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0">
    <p:cover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bd8a8"/>
                </a:solidFill>
                <a:latin typeface="Tahoma"/>
              </a:rPr>
              <a:t>Other State Aid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NETS Scholarship:  at least sophomore, 3.0 cum GPA, PA resident, graduate of PA high school enrolled full-time in approved science or technology bachelor’s degree program ($3,000 max/year)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Technology Scholarship:  PA resident, graduate of PA high school enrolled at least part-time in an associate’s degree program or equivalent, 3.0 cum ($1,000 max/year)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Must agree to work in PA following graduation, one year for each year of grant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Apply at www.aessuccess.org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0">
    <p:cover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bd8a8"/>
                </a:solidFill>
                <a:latin typeface="Tahoma"/>
              </a:rPr>
              <a:t>College/Universit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actors that may influence institutional aid, particularly merit-based aid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cademic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thletic Ability*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AT’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eographic Divers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P Cours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egacy (child of alumni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cademic Track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al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ender/Ethnicity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.S. Attend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ass Rank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ctiviti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ffffff"/>
                </a:solidFill>
                <a:latin typeface="Tahoma"/>
              </a:rPr>
              <a:t>*Athletic awards offered by NCAA Division I and Division II schools only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0">
    <p:cover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fin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0">
    <p:checker dir="ver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bd8a8"/>
                </a:solidFill>
                <a:latin typeface="Tahoma"/>
              </a:rPr>
              <a:t>College/Universit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4920" y="18284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Investigate sources of Merit-Aid firs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825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Tahoma"/>
              </a:rPr>
              <a:t>How &amp; When To Apply</a:t>
            </a:r>
            <a:endParaRPr b="0" lang="en-US" sz="33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825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Tahoma"/>
              </a:rPr>
              <a:t>Criteria</a:t>
            </a:r>
            <a:endParaRPr b="0" lang="en-US" sz="33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825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Tahoma"/>
              </a:rPr>
              <a:t>Limited number?</a:t>
            </a:r>
            <a:endParaRPr b="0" lang="en-US" sz="33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825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Tahoma"/>
              </a:rPr>
              <a:t>Renewable? </a:t>
            </a:r>
            <a:endParaRPr b="0" lang="en-US" sz="33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riteria for renew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0">
    <p:cover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bd8a8"/>
                </a:solidFill>
                <a:latin typeface="Tahoma"/>
              </a:rPr>
              <a:t>College/Universit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53640" cy="345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2948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Investigate Sources of Need-Based Aid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639000" indent="-245520">
              <a:spcBef>
                <a:spcPts val="79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ow &amp; When To Appl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39000" indent="-245520">
              <a:spcBef>
                <a:spcPts val="79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riter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39000" indent="-245520">
              <a:spcBef>
                <a:spcPts val="79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-apply every yea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982800" indent="-196560">
              <a:spcBef>
                <a:spcPts val="7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What factors will cause change? (i.e.-number in college, income increase)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639000" indent="-245520">
              <a:spcBef>
                <a:spcPts val="751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ahoma"/>
              </a:rPr>
              <a:t>Beware:  Bait/Hook &amp; Switch Tactic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2948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0">
    <p:cover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bd8a8"/>
                </a:solidFill>
                <a:latin typeface="Tahoma"/>
              </a:rPr>
              <a:t>What Happens Next?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807732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Receive financial aid award letter from each college/universit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901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Deposit at college of choice (non-refundable usually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May 1=Candidate Reply Date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901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File for any loan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901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Investigate payment plan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0">
    <p:cover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bd8a8"/>
                </a:solidFill>
                <a:latin typeface="Tahoma"/>
              </a:rPr>
              <a:t>State vs. Private</a:t>
            </a: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ate schools:  lower cost with lower or no endowment; Private schools:  higher cost with higher endow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ften translates into more sources of institutional grant/scholarship aid at private schools and, maybe even lower cost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ederal Pell Grant and PHEAA State Grant may be reduced at state institution due to lower CO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on’t rule out private institutions just due to CO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0">
    <p:cover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bd8a8"/>
                </a:solidFill>
                <a:latin typeface="Tahoma"/>
              </a:rPr>
              <a:t>State vs. Privat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4724280" cy="40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2ad8e"/>
                </a:solidFill>
                <a:latin typeface="Tahoma"/>
              </a:rPr>
              <a:t>XYZ State School: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        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$13,684 tuition/R&amp;B*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Tahoma"/>
              </a:rPr>
              <a:t>-$3,500 Stafford Loan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cc99"/>
                </a:solidFill>
                <a:latin typeface="Tahoma"/>
              </a:rPr>
              <a:t>$10,184 Cost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Tahoma"/>
              </a:rPr>
              <a:t>*In-state student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495320" y="1905120"/>
            <a:ext cx="4496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2ad8e"/>
                </a:solidFill>
                <a:latin typeface="Tahoma"/>
              </a:rPr>
              <a:t>Private School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$23,000 tuition/R&amp;B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-$10,000 school grant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Tahoma"/>
              </a:rPr>
              <a:t>-$3,500 Stafford Loan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cc99"/>
                </a:solidFill>
                <a:latin typeface="Tahoma"/>
              </a:rPr>
              <a:t>$9,500 Cost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0">
    <p:cover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bd8a8"/>
                </a:solidFill>
                <a:latin typeface="Tahoma"/>
              </a:rPr>
              <a:t>Comparing Aid Offer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Look at same “bottom line” for each school.  Compare “apples” to “apples.”         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26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abd8a8"/>
                </a:solidFill>
                <a:latin typeface="Tahoma"/>
              </a:rPr>
              <a:t>Consider:  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26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What is amount of loan in package 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vs. amount of grant?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26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What is amount of work study?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26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Are grants/scholarships automatically renewable?  If so, what are criteria?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6" name="Picture 6" descr="j0300840"/>
          <p:cNvPicPr/>
          <p:nvPr/>
        </p:nvPicPr>
        <p:blipFill>
          <a:blip r:embed="rId1"/>
          <a:stretch/>
        </p:blipFill>
        <p:spPr>
          <a:xfrm>
            <a:off x="7162920" y="3429000"/>
            <a:ext cx="1814400" cy="1528920"/>
          </a:xfrm>
          <a:prstGeom prst="rect">
            <a:avLst/>
          </a:prstGeom>
          <a:ln w="0">
            <a:noFill/>
          </a:ln>
        </p:spPr>
      </p:pic>
    </p:spTree>
  </p:cSld>
  <p:transition advTm="0">
    <p:cover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bd8a8"/>
                </a:solidFill>
                <a:latin typeface="Tahoma"/>
              </a:rPr>
              <a:t>Comparing Aid Offer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28240" y="17524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ill package change if outside scholarships are received?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factors will cause change?  (i.e.-number in college, income increase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eware:  Bait/Hook &amp; Switch Tacti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s there room for movement?  Check with the F.A. Office—there might be but it’s not “Let’s Make A Deal!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0">
    <p:cover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bd8a8"/>
                </a:solidFill>
                <a:latin typeface="Tahoma"/>
              </a:rPr>
              <a:t>Comparing Aid Offer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51920" y="1294920"/>
            <a:ext cx="899172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i="1" lang="en-US" sz="2400" spc="-1" strike="noStrike" u="sng">
                <a:solidFill>
                  <a:srgbClr val="00ffff"/>
                </a:solidFill>
                <a:uFillTx/>
                <a:latin typeface="Tahoma"/>
              </a:rPr>
              <a:t>School A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      </a:t>
            </a:r>
            <a:r>
              <a:rPr b="0" i="1" lang="en-US" sz="2400" spc="-1" strike="noStrike" u="sng">
                <a:solidFill>
                  <a:srgbClr val="00ffff"/>
                </a:solidFill>
                <a:uFillTx/>
                <a:latin typeface="Tahoma"/>
              </a:rPr>
              <a:t>School B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              </a:t>
            </a:r>
            <a:r>
              <a:rPr b="0" i="1" lang="en-US" sz="2400" spc="-1" strike="noStrike" u="sng">
                <a:solidFill>
                  <a:srgbClr val="00ffff"/>
                </a:solidFill>
                <a:uFillTx/>
                <a:latin typeface="Tahoma"/>
              </a:rPr>
              <a:t>School C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66"/>
                </a:solidFill>
                <a:latin typeface="Tahoma"/>
              </a:rPr>
              <a:t>Cost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$6,000                    $15,000                         $30,00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66"/>
                </a:solidFill>
                <a:latin typeface="Tahoma"/>
              </a:rPr>
              <a:t>EFC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$3,000                    $3,000                             $3,00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ff66"/>
                </a:solidFill>
                <a:uFillTx/>
                <a:latin typeface="Tahoma"/>
              </a:rPr>
              <a:t>Need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   $3,000                   $12,000                          $27,000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   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66"/>
                </a:solidFill>
                <a:latin typeface="Tahoma"/>
              </a:rPr>
              <a:t>Pkg. #1: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$2,500 Grants          $11,500 Grants                   $26,500 Grants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	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	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  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$3,500 Loans           $3,500 Loans                      $ 3,500 Loans                                   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66"/>
                </a:solidFill>
                <a:latin typeface="Tahoma"/>
              </a:rPr>
              <a:t>Pkg. #2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$1,500 Grants          $7,000 Grants                    $14,000 Grant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       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$4,500 Loans           $7,000 Loans                     $15,000 Loan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                                            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$1,000 Work                      $ 1,000 Work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66"/>
                </a:solidFill>
                <a:latin typeface="Tahoma"/>
              </a:rPr>
              <a:t>Pkg. #3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$1,000 Grants          $4000 Grants                     $ 5,000 Grant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       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$3,500 Loans           $9,000 Loans                     $23,500 Loan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       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$1,500  Work           $2,000 Work                      $ 1,500 Work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0">
    <p:cover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bd8a8"/>
                </a:solidFill>
                <a:latin typeface="Tahoma"/>
              </a:rPr>
              <a:t>Financing Option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853452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ederal PLUS Loan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lternative Loans (in student’s name)                 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Home Equity Loans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erest payments tax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ductible (loans&lt;$100,000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Individual college payment plans-many are interest free with nominal one-time fee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401(k) Retirement Account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Cash value of life insurance policies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0">
    <p:cover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bd8a8"/>
                </a:solidFill>
                <a:latin typeface="Tahoma"/>
              </a:rPr>
              <a:t>Outside Sourc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ivate sources of scholarship funds include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rvice/Fraternal Organization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mployers/Business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hurches/Religious Group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ources of Inform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nternet:  see </a:t>
            </a:r>
            <a:r>
              <a:rPr b="1" lang="en-US" sz="2000" spc="-1" strike="noStrike" u="sng">
                <a:solidFill>
                  <a:srgbClr val="abd8a8"/>
                </a:solidFill>
                <a:uFillTx/>
                <a:latin typeface="Tahoma"/>
              </a:rPr>
              <a:t>www.pasfaa.org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for helpful websites Books:  Peterson’s Guide, Barron’s Guide to Colleges, “Don’t Miss Out” (Octameron Assoc.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Guidance Office Computer Program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astWeb: www.fastweb.co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5" name="Picture 5" descr="bs02060_"/>
          <p:cNvPicPr/>
          <p:nvPr/>
        </p:nvPicPr>
        <p:blipFill>
          <a:blip r:embed="rId1"/>
          <a:stretch/>
        </p:blipFill>
        <p:spPr>
          <a:xfrm>
            <a:off x="7515360" y="2133720"/>
            <a:ext cx="1628640" cy="1839960"/>
          </a:xfrm>
          <a:prstGeom prst="rect">
            <a:avLst/>
          </a:prstGeom>
          <a:ln w="0">
            <a:noFill/>
          </a:ln>
        </p:spPr>
      </p:pic>
    </p:spTree>
  </p:cSld>
  <p:transition advTm="0">
    <p:cover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bd8a8"/>
                </a:solidFill>
                <a:latin typeface="Tahoma"/>
              </a:rPr>
              <a:t>Introduction</a:t>
            </a:r>
            <a:r>
              <a:rPr b="0" lang="en-US" sz="4400" spc="-1" strike="noStrike">
                <a:solidFill>
                  <a:srgbClr val="458d3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240" y="1523520"/>
            <a:ext cx="89154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24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Tahoma"/>
              </a:rPr>
              <a:t>Talk The Talk:  Financial Aid Lingo</a:t>
            </a:r>
            <a:endParaRPr b="0" lang="en-US" sz="3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24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Tahoma"/>
              </a:rPr>
              <a:t>The Application Process</a:t>
            </a:r>
            <a:endParaRPr b="0" lang="en-US" sz="3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24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Tahoma"/>
              </a:rPr>
              <a:t>Sources of Financial Aid</a:t>
            </a:r>
            <a:endParaRPr b="0" lang="en-US" sz="3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24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Tahoma"/>
              </a:rPr>
              <a:t>Sticker Shock</a:t>
            </a:r>
            <a:endParaRPr b="0" lang="en-US" sz="3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24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Tahoma"/>
              </a:rPr>
              <a:t>Comparing Aid Offers</a:t>
            </a:r>
            <a:endParaRPr b="0" lang="en-US" sz="37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0">
    <p:cover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bd8a8"/>
                </a:solidFill>
                <a:latin typeface="Tahoma"/>
              </a:rPr>
              <a:t>Outside Sourc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en using services like FastWeb, you create a profile that helps to locate scholarships you qualify f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ut of their listing of 1.5 million scholarships, you will receive a “short list” of any that match with your profi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more information you put in your profile, the better your results will b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0">
    <p:cover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bd8a8"/>
                </a:solidFill>
                <a:latin typeface="Tahoma"/>
              </a:rPr>
              <a:t>Outside Sourc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hings to remember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ach organization has their own application/proce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ave someone read your essay!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ave all your essays, you may be able to reuse the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on’t rule out smaller scholarships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0">
    <p:cover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bd8a8"/>
                </a:solidFill>
                <a:latin typeface="Tahoma"/>
              </a:rPr>
              <a:t>Education Tax Credit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6104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d8a8"/>
                </a:solidFill>
                <a:latin typeface="Tahoma"/>
              </a:rPr>
              <a:t>American Opportunity Tax Credi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vailable for four years of undergraduate study for dependents enrolled at least half-tim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educted from family’s actual tax liabilit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ax tax credit of $2,500/year per student for anything paid out of pocket for tuition, fees, and books for prior yea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ilers who don’t earn enough to owe any taxes can get refund checks for 40% of their tuition and books expenses up to $1,000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come cutoff:  $80,000 single filer; $160,000 for joint fil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0">
    <p:cover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bd8a8"/>
                </a:solidFill>
                <a:latin typeface="Tahoma"/>
              </a:rPr>
              <a:t>Education Tax Incentiv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610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abd8a8"/>
                </a:solidFill>
                <a:uFillTx/>
                <a:latin typeface="Tahoma"/>
              </a:rPr>
              <a:t>LifeTime Learning Tax Credit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64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Can claim up to 20% of first $10,000 paid out-of-pocket for tuition and fees paid after January 1, 2010 (for 2010 taxes) or  maximum tax credit of $2,000/year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64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Family based (unlike American Opportunity Credit)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64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Can’t claim American Opportunity &amp; Lifetime credits on the same student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64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For more information visit </a:t>
            </a:r>
            <a:r>
              <a:rPr b="1" lang="en-US" sz="2600" spc="-1" strike="noStrike" u="sng">
                <a:solidFill>
                  <a:srgbClr val="abd8a8"/>
                </a:solidFill>
                <a:uFillTx/>
                <a:latin typeface="Tahoma"/>
              </a:rPr>
              <a:t>www.irs.ustreas.gov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bd8a8"/>
                </a:solidFill>
                <a:latin typeface="Tahoma"/>
              </a:rPr>
              <a:t>Tuition &amp; Fees Deduction off AG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0">
    <p:cover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bd8a8"/>
                </a:solidFill>
                <a:latin typeface="Tahoma"/>
              </a:rPr>
              <a:t>What To Do NOW!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heck with colleges/universities on early financial aid estimate services offer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.E.-Arcadia University online calculator (free and easy online financial aid calculator located at </a:t>
            </a:r>
            <a:r>
              <a:rPr b="0" lang="en-US" sz="2800" spc="-1" strike="noStrike" u="sng">
                <a:solidFill>
                  <a:srgbClr val="ffcc66"/>
                </a:solidFill>
                <a:uFillTx/>
                <a:latin typeface="Tahoma"/>
                <a:hlinkClick r:id="rId1"/>
              </a:rPr>
              <a:t>www.arcadia.edu/calculator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)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search Outside Scholarship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uidance Offi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ocal Librari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ernet-see handou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abd8a8"/>
                </a:solidFill>
                <a:uFillTx/>
                <a:latin typeface="Tahoma"/>
              </a:rPr>
              <a:t>www.fastweb.co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6" name="Picture 5" descr="MCj03983230000[1]"/>
          <p:cNvPicPr/>
          <p:nvPr/>
        </p:nvPicPr>
        <p:blipFill>
          <a:blip r:embed="rId2"/>
          <a:stretch/>
        </p:blipFill>
        <p:spPr>
          <a:xfrm>
            <a:off x="6629400" y="4038480"/>
            <a:ext cx="1809720" cy="1827360"/>
          </a:xfrm>
          <a:prstGeom prst="rect">
            <a:avLst/>
          </a:prstGeom>
          <a:ln w="0">
            <a:noFill/>
          </a:ln>
        </p:spPr>
      </p:pic>
    </p:spTree>
  </p:cSld>
  <p:transition advTm="0">
    <p:cover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bd8a8"/>
                </a:solidFill>
                <a:latin typeface="Tahoma"/>
              </a:rPr>
              <a:t>Remember…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en filing the FAFSA use </a:t>
            </a:r>
            <a:r>
              <a:rPr b="0" lang="en-US" sz="3200" spc="-1" strike="noStrike" u="sng">
                <a:solidFill>
                  <a:srgbClr val="ffcc66"/>
                </a:solidFill>
                <a:uFillTx/>
                <a:latin typeface="Tahoma"/>
                <a:hlinkClick r:id="rId1"/>
              </a:rPr>
              <a:t>www.fafsa.gov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NOT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fafsa.co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458d3f"/>
                </a:solidFill>
                <a:uFillTx/>
                <a:latin typeface="Tahoma"/>
              </a:rPr>
              <a:t>MAY 1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!  It’s the deadline for State Aid consider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t’s never too early to begin researching outside scholarships- just be cautious about services that charge you money to find you mone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id offices will often be willing to help you with questions, don’t be afraid to as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0">
    <p:cover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bd8a8"/>
                </a:solidFill>
                <a:latin typeface="Tahoma"/>
              </a:rPr>
              <a:t>The End..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-360" y="198108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ffffff"/>
                </a:solidFill>
                <a:latin typeface="Tahoma"/>
              </a:rPr>
              <a:t>Thank You For Coming!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1" name="Picture 6" descr="Castle"/>
          <p:cNvPicPr/>
          <p:nvPr/>
        </p:nvPicPr>
        <p:blipFill>
          <a:blip r:embed="rId1"/>
          <a:stretch/>
        </p:blipFill>
        <p:spPr>
          <a:xfrm>
            <a:off x="2057400" y="2590920"/>
            <a:ext cx="5257800" cy="379224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7"/>
          <p:cNvSpPr/>
          <p:nvPr/>
        </p:nvSpPr>
        <p:spPr>
          <a:xfrm>
            <a:off x="3200400" y="137160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yannuzzi@arcadia.edu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0">
    <p:cover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bd8a8"/>
                </a:solidFill>
                <a:latin typeface="Tahoma"/>
              </a:rPr>
              <a:t>Financial Aid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Financial Aid=Assistance for students to fund their education in the form of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85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ahoma"/>
              </a:rPr>
              <a:t>Grants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85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ahoma"/>
              </a:rPr>
              <a:t>Scholarships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85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ahoma"/>
              </a:rPr>
              <a:t>Loans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85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ahoma"/>
              </a:rPr>
              <a:t>Employment 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58" name="Object 4"/>
          <p:cNvGraphicFramePr/>
          <p:nvPr/>
        </p:nvGraphicFramePr>
        <p:xfrm>
          <a:off x="5486400" y="2971800"/>
          <a:ext cx="2743200" cy="327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2971800"/>
                    <a:ext cx="2743200" cy="32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0">
    <p:cover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bd8a8"/>
                </a:solidFill>
                <a:latin typeface="Tahoma"/>
              </a:rPr>
              <a:t>Merit-Based Aid vs. Need-Based Aid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26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900" spc="-1" strike="noStrike">
                <a:solidFill>
                  <a:srgbClr val="abd8a8"/>
                </a:solidFill>
                <a:latin typeface="Tahoma"/>
              </a:rPr>
              <a:t>Merit-Based Aid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=aid given to students strictly on the basis of merit.  May be based on:  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cademic record          Special characteristics   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kills or talents             Involvemen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-Does not have to be repaid; usually renewable from year to year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abd8a8"/>
                </a:solidFill>
                <a:latin typeface="Tahoma"/>
              </a:rPr>
              <a:t>Need-Based Aid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=aid awarded to students on the basis of financial need.  Re-evaluated each year as financial situations may change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0">
    <p:cover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bd8a8"/>
                </a:solidFill>
                <a:latin typeface="Tahoma"/>
              </a:rPr>
              <a:t>What Is The FAFSA?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752120" y="1523520"/>
            <a:ext cx="662004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AFSA=Free Application For Federal Student Ai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pplication for federal and state aid (may be application for college aid as well, depending upon the school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arent/Student Sections color-code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le one FAFSA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per year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per student (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not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one per college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List up to ten colleges--Title IV Code or school name; schools receive info. electronicall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4" name="Picture 4" descr="Free application for Federal Student Aid (FAFSA) on the Web logo: We Help Put America Through School"/>
          <p:cNvPicPr/>
          <p:nvPr/>
        </p:nvPicPr>
        <p:blipFill>
          <a:blip r:embed="rId1"/>
          <a:stretch/>
        </p:blipFill>
        <p:spPr>
          <a:xfrm>
            <a:off x="152280" y="4876920"/>
            <a:ext cx="2438640" cy="1447560"/>
          </a:xfrm>
          <a:prstGeom prst="rect">
            <a:avLst/>
          </a:prstGeom>
          <a:ln w="0">
            <a:noFill/>
          </a:ln>
        </p:spPr>
      </p:pic>
    </p:spTree>
  </p:cSld>
  <p:transition advTm="0">
    <p:cover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90440"/>
            <a:ext cx="861048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bd8a8"/>
                </a:solidFill>
                <a:latin typeface="Tahoma"/>
              </a:rPr>
              <a:t>How/When to File the FAFSA?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600" y="2257560"/>
            <a:ext cx="8153280" cy="35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lvl="1" marL="698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ays To Complete the FAFSA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074240" indent="-214560">
              <a:spcBef>
                <a:spcPts val="55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On-line at </a:t>
            </a:r>
            <a:r>
              <a:rPr b="1" lang="en-US" sz="2200" spc="-1" strike="noStrike" u="sng">
                <a:solidFill>
                  <a:srgbClr val="abd8a8"/>
                </a:solidFill>
                <a:uFillTx/>
                <a:latin typeface="Tahoma"/>
              </a:rPr>
              <a:t>www.fafsa.gov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 (this is </a:t>
            </a: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STRONGLY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 encouraged)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2" marL="1074240" indent="-21456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Download pdf version of FAFSA at </a:t>
            </a:r>
            <a:r>
              <a:rPr b="0" lang="en-US" sz="2200" spc="-1" strike="noStrike" u="sng">
                <a:solidFill>
                  <a:srgbClr val="ffcc66"/>
                </a:solidFill>
                <a:uFillTx/>
                <a:latin typeface="Tahoma"/>
                <a:hlinkClick r:id="rId1"/>
              </a:rPr>
              <a:t>www.FederalStudentAid.ed.gov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mplete as soon as possible after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January 1,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y filing electronically at </a:t>
            </a:r>
            <a:r>
              <a:rPr b="1" lang="en-US" sz="2400" spc="-1" strike="noStrike" u="sng">
                <a:solidFill>
                  <a:srgbClr val="abd8a8"/>
                </a:solidFill>
                <a:uFillTx/>
                <a:latin typeface="Tahoma"/>
              </a:rPr>
              <a:t>www.fafsa.gov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eginning January 1, prior to the fall for which student seeks aid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0">
    <p:cover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bd8a8"/>
                </a:solidFill>
                <a:latin typeface="Tahoma"/>
              </a:rPr>
              <a:t>FAFSA On The Web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f filing over the Internet, 2 choice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arent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and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udent mail signature page in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1" lang="en-US" sz="2800" spc="-1" strike="noStrike" u="sng">
                <a:solidFill>
                  <a:srgbClr val="abd8a8"/>
                </a:solidFill>
                <a:uFillTx/>
                <a:latin typeface="Tahoma"/>
              </a:rPr>
              <a:t>O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arent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and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udent apply for PIN # at </a:t>
            </a:r>
            <a:r>
              <a:rPr b="1" lang="en-US" sz="2800" spc="-1" strike="noStrike" u="sng">
                <a:solidFill>
                  <a:srgbClr val="abd8a8"/>
                </a:solidFill>
                <a:uFillTx/>
                <a:latin typeface="Tahoma"/>
              </a:rPr>
              <a:t>www.pin.ed.gov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IN # serves as e-signatu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IN # will be mailed or e-mailed ahead of time to student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se PIN # to submit info. and make corrections, sign promissory not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0">
    <p:cover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02T22:15:24Z</dcterms:created>
  <dc:creator>Enrollment Management</dc:creator>
  <dc:description/>
  <dc:language>en-US</dc:language>
  <cp:lastModifiedBy>Daniel Yannuzzi</cp:lastModifiedBy>
  <cp:lastPrinted>1998-07-21T16:21:22Z</cp:lastPrinted>
  <dcterms:modified xsi:type="dcterms:W3CDTF">2010-11-10T16:16:24Z</dcterms:modified>
  <cp:revision>92</cp:revision>
  <dc:subject/>
  <dc:title>Training</dc:title>
</cp:coreProperties>
</file>